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5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3"/>
          <p:cNvSpPr/>
          <p:nvPr/>
        </p:nvSpPr>
        <p:spPr>
          <a:xfrm>
            <a:off x="270000" y="260280"/>
            <a:ext cx="8694720" cy="1008000"/>
          </a:xfrm>
          <a:prstGeom prst="rect">
            <a:avLst/>
          </a:prstGeom>
          <a:solidFill>
            <a:srgbClr val="72a1d0"/>
          </a:solidFill>
          <a:ln w="1908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755640" y="1390680"/>
            <a:ext cx="82090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GTKTBB"/>
          <p:cNvPicPr/>
          <p:nvPr/>
        </p:nvPicPr>
        <p:blipFill>
          <a:blip r:embed="rId2"/>
          <a:stretch/>
        </p:blipFill>
        <p:spPr>
          <a:xfrm>
            <a:off x="92160" y="5516640"/>
            <a:ext cx="1368360" cy="12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e7"/>
            </a:outerShdw>
          </a:effectLst>
        </p:spPr>
      </p:pic>
      <p:sp>
        <p:nvSpPr>
          <p:cNvPr id="5" name="Text Box 27"/>
          <p:cNvSpPr/>
          <p:nvPr/>
        </p:nvSpPr>
        <p:spPr>
          <a:xfrm>
            <a:off x="1547640" y="6453360"/>
            <a:ext cx="36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strella"/>
              </a:rPr>
              <a:t>The Story of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1763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GTKTBB"/>
          <p:cNvPicPr/>
          <p:nvPr/>
        </p:nvPicPr>
        <p:blipFill>
          <a:blip r:embed="rId2"/>
          <a:stretch/>
        </p:blipFill>
        <p:spPr>
          <a:xfrm>
            <a:off x="250920" y="3500280"/>
            <a:ext cx="3097080" cy="287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906560" y="260280"/>
            <a:ext cx="67690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The Story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of the Bib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824360" y="6237360"/>
            <a:ext cx="4319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Minstrella"/>
              </a:rPr>
              <a:t>Sponsored by the Christadelp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oly%20Bible"/>
          <p:cNvPicPr/>
          <p:nvPr/>
        </p:nvPicPr>
        <p:blipFill>
          <a:blip r:embed="rId1"/>
          <a:stretch/>
        </p:blipFill>
        <p:spPr>
          <a:xfrm>
            <a:off x="4932360" y="3500280"/>
            <a:ext cx="3994200" cy="267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91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The Spirit gifts in the first century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421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. apostle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2. prophet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3. teacher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4. workers of miracle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5. healing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6. wisdom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7. knowledge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24000" y="1483920"/>
            <a:ext cx="450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8.   faith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9. </a:t>
            </a: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ability to distinguish or discern spirit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0. tongue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1. interpretation of tongue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2. helper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nateCondensed"/>
              </a:rPr>
              <a:t>13. administrators</a:t>
            </a: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  <a:p>
            <a:pPr marL="5414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58" name=""/>
          <p:cNvSpPr/>
          <p:nvPr/>
        </p:nvSpPr>
        <p:spPr>
          <a:xfrm>
            <a:off x="2486520" y="5373720"/>
            <a:ext cx="4127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1 Corinthians 12:8-10,28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921800" cy="4256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A longer list of Spirit gifts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aul the Pharise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215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39120" indent="-339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A violent enemy of the first believers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Acts 8:1-3; 9:1-2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onverted by Jesus on the road to Damascu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Acts 9:3-19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Became a leader amongst the Christians and a powerful preacher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Better known by his Roman name Paul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Paul's letter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1484280"/>
            <a:ext cx="7740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1" lang="en-US" sz="3200" spc="-1" strike="noStrike">
                <a:solidFill>
                  <a:srgbClr val="d20000"/>
                </a:solidFill>
                <a:latin typeface="SenateCondensed"/>
              </a:rPr>
              <a:t>Letter </a:t>
            </a:r>
            <a:r>
              <a:rPr b="1" lang="en-US" sz="3200" spc="-1" strike="noStrike">
                <a:solidFill>
                  <a:srgbClr val="d20000"/>
                </a:solidFill>
                <a:latin typeface="SenateCondensed"/>
              </a:rPr>
              <a:t>	</a:t>
            </a:r>
            <a:r>
              <a:rPr b="1" lang="en-US" sz="3200" spc="-1" strike="noStrike">
                <a:solidFill>
                  <a:srgbClr val="d20000"/>
                </a:solidFill>
                <a:latin typeface="SenateCondensed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Rom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Rome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1&amp;2 Corinth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Corinth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alat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Various in Galatia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Ephes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Ephesus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hilipp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hilippi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Coloss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Colosse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1&amp;2 Thessalonians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ssalonica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He also wrote letters to Timothy, Titus and Philemon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Paul's letter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1928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Paul’s First Missionary Journey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3098" t="26611" r="0" b="6491"/>
          <a:stretch/>
        </p:blipFill>
        <p:spPr>
          <a:xfrm>
            <a:off x="-648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077320" y="25146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ar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30481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2362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2133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186696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600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2590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666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40384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7480" y="3733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28954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22860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133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828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50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my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1905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Colo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1905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590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t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2514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Pe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1295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150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Ico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1828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Ly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Der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5328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eleu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2514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al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Pap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8200" y="10396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21400" y="150804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PADO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24880" y="9637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LA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81720" y="35053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P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9600" y="31240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H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0400" y="36576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1000" y="213372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560" y="914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934320" y="3809880"/>
            <a:ext cx="457200" cy="228600"/>
          </a:xfrm>
          <a:prstGeom prst="line">
            <a:avLst/>
          </a:prstGeom>
          <a:ln cap="sq" w="57240">
            <a:solidFill>
              <a:srgbClr val="bbe0e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1905120"/>
            <a:ext cx="165240" cy="30456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4" y="0"/>
                </a:moveTo>
                <a:cubicBezTo>
                  <a:pt x="60" y="32"/>
                  <a:pt x="16" y="64"/>
                  <a:pt x="8" y="96"/>
                </a:cubicBezTo>
                <a:cubicBezTo>
                  <a:pt x="0" y="128"/>
                  <a:pt x="48" y="176"/>
                  <a:pt x="56" y="19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209680"/>
            <a:ext cx="38088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0"/>
                </a:moveTo>
                <a:cubicBezTo>
                  <a:pt x="4" y="20"/>
                  <a:pt x="8" y="40"/>
                  <a:pt x="48" y="48"/>
                </a:cubicBezTo>
                <a:cubicBezTo>
                  <a:pt x="88" y="56"/>
                  <a:pt x="208" y="48"/>
                  <a:pt x="240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1676520"/>
            <a:ext cx="317520" cy="533160"/>
          </a:xfrm>
          <a:custGeom>
            <a:avLst/>
            <a:gdLst/>
            <a:ahLst/>
            <a:rect l="l" t="t" r="r" b="b"/>
            <a:pathLst>
              <a:path w="200" h="336">
                <a:moveTo>
                  <a:pt x="192" y="336"/>
                </a:moveTo>
                <a:cubicBezTo>
                  <a:pt x="144" y="324"/>
                  <a:pt x="96" y="312"/>
                  <a:pt x="96" y="288"/>
                </a:cubicBezTo>
                <a:cubicBezTo>
                  <a:pt x="96" y="264"/>
                  <a:pt x="200" y="208"/>
                  <a:pt x="192" y="192"/>
                </a:cubicBezTo>
                <a:cubicBezTo>
                  <a:pt x="184" y="176"/>
                  <a:pt x="80" y="224"/>
                  <a:pt x="48" y="192"/>
                </a:cubicBezTo>
                <a:cubicBezTo>
                  <a:pt x="16" y="160"/>
                  <a:pt x="8" y="80"/>
                  <a:pt x="0" y="0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26080" y="1676520"/>
            <a:ext cx="368280" cy="1066680"/>
          </a:xfrm>
          <a:custGeom>
            <a:avLst/>
            <a:gdLst/>
            <a:ahLst/>
            <a:rect l="l" t="t" r="r" b="b"/>
            <a:pathLst>
              <a:path w="232" h="672">
                <a:moveTo>
                  <a:pt x="200" y="0"/>
                </a:moveTo>
                <a:cubicBezTo>
                  <a:pt x="216" y="104"/>
                  <a:pt x="232" y="208"/>
                  <a:pt x="200" y="240"/>
                </a:cubicBezTo>
                <a:cubicBezTo>
                  <a:pt x="168" y="272"/>
                  <a:pt x="16" y="120"/>
                  <a:pt x="8" y="192"/>
                </a:cubicBezTo>
                <a:cubicBezTo>
                  <a:pt x="0" y="264"/>
                  <a:pt x="120" y="592"/>
                  <a:pt x="152" y="672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2286000"/>
            <a:ext cx="533520" cy="228600"/>
          </a:xfrm>
          <a:custGeom>
            <a:avLst/>
            <a:gdLst/>
            <a:ahLst/>
            <a:rect l="l" t="t" r="r" b="b"/>
            <a:pathLst>
              <a:path w="336" h="112">
                <a:moveTo>
                  <a:pt x="336" y="96"/>
                </a:moveTo>
                <a:cubicBezTo>
                  <a:pt x="216" y="104"/>
                  <a:pt x="96" y="112"/>
                  <a:pt x="48" y="96"/>
                </a:cubicBezTo>
                <a:cubicBezTo>
                  <a:pt x="0" y="80"/>
                  <a:pt x="48" y="16"/>
                  <a:pt x="48" y="0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2743200"/>
            <a:ext cx="2590920" cy="723960"/>
          </a:xfrm>
          <a:custGeom>
            <a:avLst/>
            <a:gdLst/>
            <a:ahLst/>
            <a:rect l="l" t="t" r="r" b="b"/>
            <a:pathLst>
              <a:path w="1632" h="456">
                <a:moveTo>
                  <a:pt x="0" y="0"/>
                </a:moveTo>
                <a:cubicBezTo>
                  <a:pt x="32" y="204"/>
                  <a:pt x="64" y="408"/>
                  <a:pt x="288" y="432"/>
                </a:cubicBezTo>
                <a:cubicBezTo>
                  <a:pt x="512" y="456"/>
                  <a:pt x="1152" y="200"/>
                  <a:pt x="1344" y="144"/>
                </a:cubicBezTo>
                <a:cubicBezTo>
                  <a:pt x="1536" y="88"/>
                  <a:pt x="1392" y="104"/>
                  <a:pt x="1440" y="96"/>
                </a:cubicBezTo>
                <a:cubicBezTo>
                  <a:pt x="1488" y="88"/>
                  <a:pt x="1600" y="96"/>
                  <a:pt x="1632" y="96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1828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0120" y="3035160"/>
            <a:ext cx="914400" cy="698760"/>
          </a:xfrm>
          <a:custGeom>
            <a:avLst/>
            <a:gdLst/>
            <a:ahLst/>
            <a:rect l="l" t="t" r="r" b="b"/>
            <a:pathLst>
              <a:path w="576" h="440">
                <a:moveTo>
                  <a:pt x="576" y="8"/>
                </a:moveTo>
                <a:cubicBezTo>
                  <a:pt x="484" y="4"/>
                  <a:pt x="392" y="0"/>
                  <a:pt x="336" y="56"/>
                </a:cubicBezTo>
                <a:cubicBezTo>
                  <a:pt x="280" y="112"/>
                  <a:pt x="296" y="280"/>
                  <a:pt x="240" y="344"/>
                </a:cubicBezTo>
                <a:cubicBezTo>
                  <a:pt x="184" y="408"/>
                  <a:pt x="40" y="424"/>
                  <a:pt x="0" y="44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3800" y="1676520"/>
            <a:ext cx="393480" cy="990360"/>
          </a:xfrm>
          <a:custGeom>
            <a:avLst/>
            <a:gdLst/>
            <a:ahLst/>
            <a:rect l="l" t="t" r="r" b="b"/>
            <a:pathLst>
              <a:path w="248" h="624">
                <a:moveTo>
                  <a:pt x="152" y="624"/>
                </a:moveTo>
                <a:cubicBezTo>
                  <a:pt x="76" y="396"/>
                  <a:pt x="0" y="168"/>
                  <a:pt x="8" y="96"/>
                </a:cubicBezTo>
                <a:cubicBezTo>
                  <a:pt x="16" y="24"/>
                  <a:pt x="160" y="208"/>
                  <a:pt x="200" y="192"/>
                </a:cubicBezTo>
                <a:cubicBezTo>
                  <a:pt x="240" y="176"/>
                  <a:pt x="240" y="32"/>
                  <a:pt x="248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16002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0"/>
                </a:moveTo>
                <a:cubicBezTo>
                  <a:pt x="40" y="12"/>
                  <a:pt x="80" y="24"/>
                  <a:pt x="96" y="48"/>
                </a:cubicBezTo>
                <a:cubicBezTo>
                  <a:pt x="112" y="72"/>
                  <a:pt x="72" y="120"/>
                  <a:pt x="96" y="144"/>
                </a:cubicBezTo>
                <a:cubicBezTo>
                  <a:pt x="120" y="168"/>
                  <a:pt x="216" y="184"/>
                  <a:pt x="240" y="19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13480" y="3276720"/>
            <a:ext cx="2539800" cy="2666880"/>
          </a:xfrm>
          <a:custGeom>
            <a:avLst/>
            <a:gdLst/>
            <a:ahLst/>
            <a:rect l="l" t="t" r="r" b="b"/>
            <a:pathLst>
              <a:path w="1600" h="1680">
                <a:moveTo>
                  <a:pt x="112" y="0"/>
                </a:moveTo>
                <a:cubicBezTo>
                  <a:pt x="56" y="236"/>
                  <a:pt x="0" y="472"/>
                  <a:pt x="16" y="672"/>
                </a:cubicBezTo>
                <a:cubicBezTo>
                  <a:pt x="32" y="872"/>
                  <a:pt x="96" y="1056"/>
                  <a:pt x="208" y="1200"/>
                </a:cubicBezTo>
                <a:cubicBezTo>
                  <a:pt x="320" y="1344"/>
                  <a:pt x="456" y="1456"/>
                  <a:pt x="688" y="1536"/>
                </a:cubicBezTo>
                <a:cubicBezTo>
                  <a:pt x="920" y="1616"/>
                  <a:pt x="1448" y="1656"/>
                  <a:pt x="1600" y="1680"/>
                </a:cubicBezTo>
              </a:path>
            </a:pathLst>
          </a:custGeom>
          <a:noFill/>
          <a:ln w="28440">
            <a:solidFill>
              <a:srgbClr val="99cc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2819520"/>
            <a:ext cx="990360" cy="1333440"/>
          </a:xfrm>
          <a:custGeom>
            <a:avLst/>
            <a:gdLst/>
            <a:ahLst/>
            <a:rect l="l" t="t" r="r" b="b"/>
            <a:pathLst>
              <a:path w="624" h="840">
                <a:moveTo>
                  <a:pt x="624" y="816"/>
                </a:moveTo>
                <a:cubicBezTo>
                  <a:pt x="584" y="828"/>
                  <a:pt x="544" y="840"/>
                  <a:pt x="480" y="816"/>
                </a:cubicBezTo>
                <a:cubicBezTo>
                  <a:pt x="416" y="792"/>
                  <a:pt x="320" y="808"/>
                  <a:pt x="240" y="672"/>
                </a:cubicBezTo>
                <a:cubicBezTo>
                  <a:pt x="160" y="536"/>
                  <a:pt x="40" y="112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495680"/>
            <a:ext cx="2666880" cy="215424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A.D. 46 – 48    Acts 13:4 – 14: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Journe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Journey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Mark’s return to 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5486400"/>
            <a:ext cx="609840" cy="0"/>
          </a:xfrm>
          <a:prstGeom prst="line">
            <a:avLst/>
          </a:prstGeom>
          <a:ln cap="sq" w="57240">
            <a:solidFill>
              <a:srgbClr val="bbe0e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7240" y="5943600"/>
            <a:ext cx="609480" cy="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6400800"/>
            <a:ext cx="762120" cy="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6019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4520" y="59436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23400" t="8978" r="0" b="1483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92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nateCondensed"/>
              </a:rPr>
              <a:t>Paul’s Second Missionary Journey</a:t>
            </a:r>
            <a:endParaRPr b="0" lang="en-US" sz="48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th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ori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3276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1523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Thessal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133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r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2438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2743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Ico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2971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Ly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D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3733920"/>
            <a:ext cx="121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6095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Caes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2600" y="19051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5600" y="170640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LA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15240" y="47242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P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25400" y="42670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H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4680" y="482616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76800" y="274320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17960" y="914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1400" y="24382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PADO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22860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1828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1523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86696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1600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743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86600" y="28954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3352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3733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763120" y="39625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10480" y="6553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6172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19051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3505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33526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4267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Phil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mphi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905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pol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B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467480" y="6461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71880" y="1066680"/>
            <a:ext cx="19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HYNIA &amp; PON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2800" y="23623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040" y="26668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RY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63244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6248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yr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559720" y="4038480"/>
            <a:ext cx="470160" cy="2438640"/>
          </a:xfrm>
          <a:custGeom>
            <a:avLst/>
            <a:gdLst/>
            <a:ahLst/>
            <a:rect l="l" t="t" r="r" b="b"/>
            <a:pathLst>
              <a:path w="296" h="1536">
                <a:moveTo>
                  <a:pt x="80" y="1536"/>
                </a:moveTo>
                <a:cubicBezTo>
                  <a:pt x="40" y="1480"/>
                  <a:pt x="0" y="1424"/>
                  <a:pt x="32" y="1248"/>
                </a:cubicBezTo>
                <a:cubicBezTo>
                  <a:pt x="64" y="1072"/>
                  <a:pt x="248" y="688"/>
                  <a:pt x="272" y="480"/>
                </a:cubicBezTo>
                <a:cubicBezTo>
                  <a:pt x="296" y="272"/>
                  <a:pt x="192" y="80"/>
                  <a:pt x="176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29600" y="3429000"/>
            <a:ext cx="736560" cy="533520"/>
          </a:xfrm>
          <a:custGeom>
            <a:avLst/>
            <a:gdLst/>
            <a:ahLst/>
            <a:rect l="l" t="t" r="r" b="b"/>
            <a:pathLst>
              <a:path w="464" h="336">
                <a:moveTo>
                  <a:pt x="384" y="336"/>
                </a:moveTo>
                <a:cubicBezTo>
                  <a:pt x="424" y="268"/>
                  <a:pt x="464" y="200"/>
                  <a:pt x="432" y="144"/>
                </a:cubicBezTo>
                <a:cubicBezTo>
                  <a:pt x="400" y="88"/>
                  <a:pt x="264" y="0"/>
                  <a:pt x="192" y="0"/>
                </a:cubicBezTo>
                <a:cubicBezTo>
                  <a:pt x="120" y="0"/>
                  <a:pt x="32" y="120"/>
                  <a:pt x="0" y="144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581280"/>
            <a:ext cx="762120" cy="190800"/>
          </a:xfrm>
          <a:custGeom>
            <a:avLst/>
            <a:gdLst/>
            <a:ahLst/>
            <a:rect l="l" t="t" r="r" b="b"/>
            <a:pathLst>
              <a:path w="576" h="360">
                <a:moveTo>
                  <a:pt x="576" y="336"/>
                </a:moveTo>
                <a:cubicBezTo>
                  <a:pt x="520" y="348"/>
                  <a:pt x="464" y="360"/>
                  <a:pt x="432" y="336"/>
                </a:cubicBezTo>
                <a:cubicBezTo>
                  <a:pt x="400" y="312"/>
                  <a:pt x="400" y="232"/>
                  <a:pt x="384" y="192"/>
                </a:cubicBezTo>
                <a:cubicBezTo>
                  <a:pt x="368" y="152"/>
                  <a:pt x="384" y="104"/>
                  <a:pt x="336" y="96"/>
                </a:cubicBezTo>
                <a:cubicBezTo>
                  <a:pt x="288" y="88"/>
                  <a:pt x="152" y="160"/>
                  <a:pt x="96" y="144"/>
                </a:cubicBezTo>
                <a:cubicBezTo>
                  <a:pt x="40" y="128"/>
                  <a:pt x="16" y="24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429000"/>
            <a:ext cx="228600" cy="76320"/>
          </a:xfrm>
          <a:custGeom>
            <a:avLst/>
            <a:gdLst/>
            <a:ahLst/>
            <a:rect l="l" t="t" r="r" b="b"/>
            <a:pathLst>
              <a:path w="144" h="48">
                <a:moveTo>
                  <a:pt x="144" y="48"/>
                </a:moveTo>
                <a:cubicBezTo>
                  <a:pt x="84" y="28"/>
                  <a:pt x="24" y="8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2971800"/>
            <a:ext cx="330120" cy="380880"/>
          </a:xfrm>
          <a:custGeom>
            <a:avLst/>
            <a:gdLst/>
            <a:ahLst/>
            <a:rect l="l" t="t" r="r" b="b"/>
            <a:pathLst>
              <a:path w="208" h="240">
                <a:moveTo>
                  <a:pt x="112" y="240"/>
                </a:moveTo>
                <a:cubicBezTo>
                  <a:pt x="56" y="188"/>
                  <a:pt x="0" y="136"/>
                  <a:pt x="16" y="96"/>
                </a:cubicBezTo>
                <a:cubicBezTo>
                  <a:pt x="32" y="56"/>
                  <a:pt x="176" y="16"/>
                  <a:pt x="208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2819520"/>
            <a:ext cx="622440" cy="75960"/>
          </a:xfrm>
          <a:custGeom>
            <a:avLst/>
            <a:gdLst/>
            <a:ahLst/>
            <a:rect l="l" t="t" r="r" b="b"/>
            <a:pathLst>
              <a:path w="392" h="192">
                <a:moveTo>
                  <a:pt x="336" y="192"/>
                </a:moveTo>
                <a:cubicBezTo>
                  <a:pt x="364" y="136"/>
                  <a:pt x="392" y="80"/>
                  <a:pt x="336" y="48"/>
                </a:cubicBezTo>
                <a:cubicBezTo>
                  <a:pt x="280" y="16"/>
                  <a:pt x="56" y="8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60020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84" y="432"/>
                </a:moveTo>
                <a:cubicBezTo>
                  <a:pt x="340" y="480"/>
                  <a:pt x="296" y="528"/>
                  <a:pt x="240" y="480"/>
                </a:cubicBezTo>
                <a:cubicBezTo>
                  <a:pt x="184" y="432"/>
                  <a:pt x="88" y="224"/>
                  <a:pt x="48" y="144"/>
                </a:cubicBezTo>
                <a:cubicBezTo>
                  <a:pt x="8" y="64"/>
                  <a:pt x="8" y="24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523880"/>
            <a:ext cx="152280" cy="1800"/>
          </a:xfrm>
          <a:custGeom>
            <a:avLst/>
            <a:gdLst/>
            <a:ahLst/>
            <a:rect l="l" t="t" r="r" b="b"/>
            <a:pathLst>
              <a:path w="96" h="1">
                <a:moveTo>
                  <a:pt x="96" y="0"/>
                </a:moveTo>
                <a:cubicBezTo>
                  <a:pt x="56" y="0"/>
                  <a:pt x="16" y="0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1523880"/>
            <a:ext cx="152280" cy="76320"/>
          </a:xfrm>
          <a:custGeom>
            <a:avLst/>
            <a:gdLst/>
            <a:ahLst/>
            <a:rect l="l" t="t" r="r" b="b"/>
            <a:pathLst>
              <a:path w="96" h="48">
                <a:moveTo>
                  <a:pt x="96" y="0"/>
                </a:moveTo>
                <a:cubicBezTo>
                  <a:pt x="56" y="20"/>
                  <a:pt x="16" y="40"/>
                  <a:pt x="0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1676520"/>
            <a:ext cx="1440" cy="15228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0"/>
                </a:moveTo>
                <a:cubicBezTo>
                  <a:pt x="0" y="40"/>
                  <a:pt x="0" y="80"/>
                  <a:pt x="0" y="96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1905120"/>
            <a:ext cx="228600" cy="1440"/>
          </a:xfrm>
          <a:custGeom>
            <a:avLst/>
            <a:gdLst/>
            <a:ahLst/>
            <a:rect l="l" t="t" r="r" b="b"/>
            <a:pathLst>
              <a:path w="144" h="1">
                <a:moveTo>
                  <a:pt x="144" y="0"/>
                </a:moveTo>
                <a:cubicBezTo>
                  <a:pt x="84" y="0"/>
                  <a:pt x="24" y="0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1905120"/>
            <a:ext cx="304920" cy="1440"/>
          </a:xfrm>
          <a:custGeom>
            <a:avLst/>
            <a:gdLst/>
            <a:ahLst/>
            <a:rect l="l" t="t" r="r" b="b"/>
            <a:pathLst>
              <a:path w="192" h="1">
                <a:moveTo>
                  <a:pt x="192" y="0"/>
                </a:moveTo>
                <a:cubicBezTo>
                  <a:pt x="112" y="0"/>
                  <a:pt x="32" y="0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73400" y="1981080"/>
            <a:ext cx="1333440" cy="1702080"/>
          </a:xfrm>
          <a:custGeom>
            <a:avLst/>
            <a:gdLst/>
            <a:ahLst/>
            <a:rect l="l" t="t" r="r" b="b"/>
            <a:pathLst>
              <a:path w="840" h="1072">
                <a:moveTo>
                  <a:pt x="8" y="0"/>
                </a:moveTo>
                <a:cubicBezTo>
                  <a:pt x="4" y="96"/>
                  <a:pt x="0" y="192"/>
                  <a:pt x="104" y="240"/>
                </a:cubicBezTo>
                <a:cubicBezTo>
                  <a:pt x="208" y="288"/>
                  <a:pt x="512" y="192"/>
                  <a:pt x="632" y="288"/>
                </a:cubicBezTo>
                <a:cubicBezTo>
                  <a:pt x="752" y="384"/>
                  <a:pt x="840" y="688"/>
                  <a:pt x="824" y="816"/>
                </a:cubicBezTo>
                <a:cubicBezTo>
                  <a:pt x="808" y="944"/>
                  <a:pt x="600" y="1040"/>
                  <a:pt x="536" y="1056"/>
                </a:cubicBezTo>
                <a:cubicBezTo>
                  <a:pt x="472" y="1072"/>
                  <a:pt x="456" y="936"/>
                  <a:pt x="440" y="91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3352680"/>
            <a:ext cx="30456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192" y="0"/>
                </a:moveTo>
                <a:cubicBezTo>
                  <a:pt x="108" y="20"/>
                  <a:pt x="24" y="40"/>
                  <a:pt x="0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3505320"/>
            <a:ext cx="7632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cubicBezTo>
                  <a:pt x="20" y="20"/>
                  <a:pt x="40" y="40"/>
                  <a:pt x="48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3352680"/>
            <a:ext cx="1752480" cy="635040"/>
          </a:xfrm>
          <a:custGeom>
            <a:avLst/>
            <a:gdLst/>
            <a:ahLst/>
            <a:rect l="l" t="t" r="r" b="b"/>
            <a:pathLst>
              <a:path w="1104" h="440">
                <a:moveTo>
                  <a:pt x="0" y="184"/>
                </a:moveTo>
                <a:cubicBezTo>
                  <a:pt x="88" y="296"/>
                  <a:pt x="176" y="408"/>
                  <a:pt x="288" y="424"/>
                </a:cubicBezTo>
                <a:cubicBezTo>
                  <a:pt x="400" y="440"/>
                  <a:pt x="584" y="344"/>
                  <a:pt x="672" y="280"/>
                </a:cubicBezTo>
                <a:cubicBezTo>
                  <a:pt x="760" y="216"/>
                  <a:pt x="744" y="80"/>
                  <a:pt x="816" y="40"/>
                </a:cubicBezTo>
                <a:cubicBezTo>
                  <a:pt x="888" y="0"/>
                  <a:pt x="1056" y="40"/>
                  <a:pt x="1104" y="4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6320" y="3429000"/>
            <a:ext cx="4165560" cy="2743200"/>
          </a:xfrm>
          <a:custGeom>
            <a:avLst/>
            <a:gdLst/>
            <a:ahLst/>
            <a:rect l="l" t="t" r="r" b="b"/>
            <a:pathLst>
              <a:path w="2624" h="1728">
                <a:moveTo>
                  <a:pt x="272" y="0"/>
                </a:moveTo>
                <a:cubicBezTo>
                  <a:pt x="240" y="28"/>
                  <a:pt x="208" y="56"/>
                  <a:pt x="176" y="96"/>
                </a:cubicBezTo>
                <a:cubicBezTo>
                  <a:pt x="144" y="136"/>
                  <a:pt x="96" y="184"/>
                  <a:pt x="80" y="240"/>
                </a:cubicBezTo>
                <a:cubicBezTo>
                  <a:pt x="64" y="296"/>
                  <a:pt x="0" y="384"/>
                  <a:pt x="80" y="432"/>
                </a:cubicBezTo>
                <a:cubicBezTo>
                  <a:pt x="160" y="480"/>
                  <a:pt x="344" y="424"/>
                  <a:pt x="560" y="528"/>
                </a:cubicBezTo>
                <a:cubicBezTo>
                  <a:pt x="776" y="632"/>
                  <a:pt x="1176" y="896"/>
                  <a:pt x="1376" y="1056"/>
                </a:cubicBezTo>
                <a:cubicBezTo>
                  <a:pt x="1576" y="1216"/>
                  <a:pt x="1552" y="1376"/>
                  <a:pt x="1760" y="1488"/>
                </a:cubicBezTo>
                <a:cubicBezTo>
                  <a:pt x="1968" y="1600"/>
                  <a:pt x="2480" y="1688"/>
                  <a:pt x="2624" y="172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1880" y="62485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cubicBezTo>
                  <a:pt x="40" y="80"/>
                  <a:pt x="80" y="160"/>
                  <a:pt x="96" y="19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21337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1440" y="432"/>
                </a:moveTo>
                <a:cubicBezTo>
                  <a:pt x="1268" y="364"/>
                  <a:pt x="1096" y="296"/>
                  <a:pt x="960" y="240"/>
                </a:cubicBezTo>
                <a:cubicBezTo>
                  <a:pt x="824" y="184"/>
                  <a:pt x="760" y="136"/>
                  <a:pt x="624" y="96"/>
                </a:cubicBezTo>
                <a:cubicBezTo>
                  <a:pt x="488" y="56"/>
                  <a:pt x="248" y="0"/>
                  <a:pt x="144" y="0"/>
                </a:cubicBezTo>
                <a:cubicBezTo>
                  <a:pt x="40" y="0"/>
                  <a:pt x="24" y="80"/>
                  <a:pt x="0" y="96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72400" y="4114800"/>
            <a:ext cx="914400" cy="723960"/>
          </a:xfrm>
          <a:custGeom>
            <a:avLst/>
            <a:gdLst/>
            <a:ahLst/>
            <a:rect l="l" t="t" r="r" b="b"/>
            <a:pathLst>
              <a:path w="576" h="456">
                <a:moveTo>
                  <a:pt x="576" y="0"/>
                </a:moveTo>
                <a:cubicBezTo>
                  <a:pt x="480" y="156"/>
                  <a:pt x="384" y="312"/>
                  <a:pt x="288" y="384"/>
                </a:cubicBezTo>
                <a:cubicBezTo>
                  <a:pt x="192" y="456"/>
                  <a:pt x="48" y="424"/>
                  <a:pt x="0" y="432"/>
                </a:cubicBezTo>
              </a:path>
            </a:pathLst>
          </a:custGeom>
          <a:noFill/>
          <a:ln w="57240">
            <a:solidFill>
              <a:srgbClr val="0000cc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246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8108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ench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29000" y="15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Neo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105520"/>
            <a:ext cx="2819520" cy="156924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A.D. 49 – 52    Acts 15:39 – 18: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Paul’s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Barnabus &amp;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6095880"/>
            <a:ext cx="685800" cy="76320"/>
          </a:xfrm>
          <a:custGeom>
            <a:avLst/>
            <a:gdLst/>
            <a:ahLst/>
            <a:rect l="l" t="t" r="r" b="b"/>
            <a:pathLst>
              <a:path w="240" h="1">
                <a:moveTo>
                  <a:pt x="0" y="0"/>
                </a:moveTo>
                <a:cubicBezTo>
                  <a:pt x="96" y="0"/>
                  <a:pt x="192" y="0"/>
                  <a:pt x="24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6477120"/>
            <a:ext cx="609840" cy="77760"/>
          </a:xfrm>
          <a:custGeom>
            <a:avLst/>
            <a:gdLst/>
            <a:ahLst/>
            <a:rect l="l" t="t" r="r" b="b"/>
            <a:pathLst>
              <a:path w="240" h="1">
                <a:moveTo>
                  <a:pt x="0" y="0"/>
                </a:moveTo>
                <a:cubicBezTo>
                  <a:pt x="96" y="0"/>
                  <a:pt x="192" y="0"/>
                  <a:pt x="240" y="0"/>
                </a:cubicBezTo>
              </a:path>
            </a:pathLst>
          </a:custGeom>
          <a:noFill/>
          <a:ln w="57240">
            <a:solidFill>
              <a:srgbClr val="0000cc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2468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ar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rcRect l="23400" t="8978" r="0" b="1483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743200" y="3352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th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ori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3276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244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102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Ly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10280" y="3581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De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aes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15600" y="170640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LA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915240" y="47242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P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25400" y="42670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H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74680" y="482616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48200" y="281952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A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1905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pol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67480" y="6461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62400" y="20574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RY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1447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Neo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3333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nateCondensed"/>
              </a:rPr>
              <a:t>Paul’s Third Missionary Jour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18560" y="9144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Ptolem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Ico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81400" y="39625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29200" y="4267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19051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3352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33526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6765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362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124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3276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3809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43434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534520" y="5638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8200" y="6019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1880" y="63244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610480" y="66294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2743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4382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67160"/>
            <a:ext cx="685800" cy="876240"/>
          </a:xfrm>
          <a:custGeom>
            <a:avLst/>
            <a:gdLst/>
            <a:ahLst/>
            <a:rect l="l" t="t" r="r" b="b"/>
            <a:pathLst>
              <a:path w="432" h="552">
                <a:moveTo>
                  <a:pt x="336" y="552"/>
                </a:moveTo>
                <a:cubicBezTo>
                  <a:pt x="384" y="428"/>
                  <a:pt x="432" y="304"/>
                  <a:pt x="432" y="216"/>
                </a:cubicBezTo>
                <a:cubicBezTo>
                  <a:pt x="432" y="128"/>
                  <a:pt x="392" y="48"/>
                  <a:pt x="336" y="24"/>
                </a:cubicBezTo>
                <a:cubicBezTo>
                  <a:pt x="280" y="0"/>
                  <a:pt x="152" y="48"/>
                  <a:pt x="96" y="72"/>
                </a:cubicBezTo>
                <a:cubicBezTo>
                  <a:pt x="40" y="96"/>
                  <a:pt x="16" y="144"/>
                  <a:pt x="0" y="16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91520" y="3314880"/>
            <a:ext cx="927000" cy="49500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28" y="312"/>
                </a:moveTo>
                <a:cubicBezTo>
                  <a:pt x="556" y="216"/>
                  <a:pt x="584" y="120"/>
                  <a:pt x="576" y="72"/>
                </a:cubicBezTo>
                <a:cubicBezTo>
                  <a:pt x="568" y="24"/>
                  <a:pt x="552" y="0"/>
                  <a:pt x="480" y="24"/>
                </a:cubicBezTo>
                <a:cubicBezTo>
                  <a:pt x="408" y="48"/>
                  <a:pt x="224" y="192"/>
                  <a:pt x="144" y="216"/>
                </a:cubicBezTo>
                <a:cubicBezTo>
                  <a:pt x="64" y="240"/>
                  <a:pt x="24" y="176"/>
                  <a:pt x="0" y="16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3352680"/>
            <a:ext cx="304920" cy="15264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96"/>
                </a:moveTo>
                <a:cubicBezTo>
                  <a:pt x="112" y="56"/>
                  <a:pt x="32" y="16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86600" y="31240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cubicBezTo>
                  <a:pt x="20" y="28"/>
                  <a:pt x="40" y="8"/>
                  <a:pt x="48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2895480"/>
            <a:ext cx="533520" cy="165240"/>
          </a:xfrm>
          <a:custGeom>
            <a:avLst/>
            <a:gdLst/>
            <a:ahLst/>
            <a:rect l="l" t="t" r="r" b="b"/>
            <a:pathLst>
              <a:path w="336" h="104">
                <a:moveTo>
                  <a:pt x="336" y="96"/>
                </a:moveTo>
                <a:cubicBezTo>
                  <a:pt x="288" y="48"/>
                  <a:pt x="240" y="0"/>
                  <a:pt x="192" y="0"/>
                </a:cubicBezTo>
                <a:cubicBezTo>
                  <a:pt x="144" y="0"/>
                  <a:pt x="80" y="88"/>
                  <a:pt x="48" y="96"/>
                </a:cubicBezTo>
                <a:cubicBezTo>
                  <a:pt x="16" y="104"/>
                  <a:pt x="8" y="56"/>
                  <a:pt x="0" y="4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2832120"/>
            <a:ext cx="1981440" cy="520560"/>
          </a:xfrm>
          <a:custGeom>
            <a:avLst/>
            <a:gdLst/>
            <a:ahLst/>
            <a:rect l="l" t="t" r="r" b="b"/>
            <a:pathLst>
              <a:path w="1248" h="328">
                <a:moveTo>
                  <a:pt x="1248" y="40"/>
                </a:moveTo>
                <a:cubicBezTo>
                  <a:pt x="1204" y="20"/>
                  <a:pt x="1160" y="0"/>
                  <a:pt x="1104" y="40"/>
                </a:cubicBezTo>
                <a:cubicBezTo>
                  <a:pt x="1048" y="80"/>
                  <a:pt x="1000" y="248"/>
                  <a:pt x="912" y="280"/>
                </a:cubicBezTo>
                <a:cubicBezTo>
                  <a:pt x="824" y="312"/>
                  <a:pt x="680" y="232"/>
                  <a:pt x="576" y="232"/>
                </a:cubicBezTo>
                <a:cubicBezTo>
                  <a:pt x="472" y="232"/>
                  <a:pt x="384" y="264"/>
                  <a:pt x="288" y="280"/>
                </a:cubicBezTo>
                <a:cubicBezTo>
                  <a:pt x="192" y="296"/>
                  <a:pt x="48" y="320"/>
                  <a:pt x="0" y="32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2260440"/>
            <a:ext cx="622440" cy="1092240"/>
          </a:xfrm>
          <a:custGeom>
            <a:avLst/>
            <a:gdLst/>
            <a:ahLst/>
            <a:rect l="l" t="t" r="r" b="b"/>
            <a:pathLst>
              <a:path w="392" h="688">
                <a:moveTo>
                  <a:pt x="336" y="688"/>
                </a:moveTo>
                <a:cubicBezTo>
                  <a:pt x="364" y="624"/>
                  <a:pt x="392" y="560"/>
                  <a:pt x="384" y="496"/>
                </a:cubicBezTo>
                <a:cubicBezTo>
                  <a:pt x="376" y="432"/>
                  <a:pt x="304" y="360"/>
                  <a:pt x="288" y="304"/>
                </a:cubicBezTo>
                <a:cubicBezTo>
                  <a:pt x="272" y="248"/>
                  <a:pt x="304" y="208"/>
                  <a:pt x="288" y="160"/>
                </a:cubicBezTo>
                <a:cubicBezTo>
                  <a:pt x="272" y="112"/>
                  <a:pt x="240" y="32"/>
                  <a:pt x="192" y="16"/>
                </a:cubicBezTo>
                <a:cubicBezTo>
                  <a:pt x="144" y="0"/>
                  <a:pt x="32" y="56"/>
                  <a:pt x="0" y="64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9760" y="1752480"/>
            <a:ext cx="558720" cy="711360"/>
          </a:xfrm>
          <a:custGeom>
            <a:avLst/>
            <a:gdLst/>
            <a:ahLst/>
            <a:rect l="l" t="t" r="r" b="b"/>
            <a:pathLst>
              <a:path w="352" h="496">
                <a:moveTo>
                  <a:pt x="352" y="432"/>
                </a:moveTo>
                <a:cubicBezTo>
                  <a:pt x="260" y="464"/>
                  <a:pt x="168" y="496"/>
                  <a:pt x="112" y="480"/>
                </a:cubicBezTo>
                <a:cubicBezTo>
                  <a:pt x="56" y="464"/>
                  <a:pt x="0" y="416"/>
                  <a:pt x="16" y="336"/>
                </a:cubicBezTo>
                <a:cubicBezTo>
                  <a:pt x="32" y="256"/>
                  <a:pt x="184" y="56"/>
                  <a:pt x="208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4864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Pa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1447920"/>
            <a:ext cx="1968480" cy="1790640"/>
          </a:xfrm>
          <a:custGeom>
            <a:avLst/>
            <a:gdLst/>
            <a:ahLst/>
            <a:rect l="l" t="t" r="r" b="b"/>
            <a:pathLst>
              <a:path w="1240" h="1128">
                <a:moveTo>
                  <a:pt x="408" y="1128"/>
                </a:moveTo>
                <a:cubicBezTo>
                  <a:pt x="320" y="1112"/>
                  <a:pt x="232" y="1096"/>
                  <a:pt x="168" y="1032"/>
                </a:cubicBezTo>
                <a:cubicBezTo>
                  <a:pt x="104" y="968"/>
                  <a:pt x="16" y="792"/>
                  <a:pt x="24" y="744"/>
                </a:cubicBezTo>
                <a:cubicBezTo>
                  <a:pt x="32" y="696"/>
                  <a:pt x="192" y="752"/>
                  <a:pt x="216" y="744"/>
                </a:cubicBezTo>
                <a:cubicBezTo>
                  <a:pt x="240" y="736"/>
                  <a:pt x="200" y="776"/>
                  <a:pt x="168" y="696"/>
                </a:cubicBezTo>
                <a:cubicBezTo>
                  <a:pt x="136" y="616"/>
                  <a:pt x="0" y="344"/>
                  <a:pt x="24" y="264"/>
                </a:cubicBezTo>
                <a:cubicBezTo>
                  <a:pt x="48" y="184"/>
                  <a:pt x="248" y="224"/>
                  <a:pt x="312" y="216"/>
                </a:cubicBezTo>
                <a:cubicBezTo>
                  <a:pt x="376" y="208"/>
                  <a:pt x="392" y="232"/>
                  <a:pt x="408" y="216"/>
                </a:cubicBezTo>
                <a:cubicBezTo>
                  <a:pt x="424" y="200"/>
                  <a:pt x="392" y="144"/>
                  <a:pt x="408" y="120"/>
                </a:cubicBezTo>
                <a:cubicBezTo>
                  <a:pt x="424" y="96"/>
                  <a:pt x="464" y="88"/>
                  <a:pt x="504" y="72"/>
                </a:cubicBezTo>
                <a:cubicBezTo>
                  <a:pt x="544" y="56"/>
                  <a:pt x="608" y="24"/>
                  <a:pt x="648" y="24"/>
                </a:cubicBezTo>
                <a:cubicBezTo>
                  <a:pt x="688" y="24"/>
                  <a:pt x="712" y="72"/>
                  <a:pt x="744" y="72"/>
                </a:cubicBezTo>
                <a:cubicBezTo>
                  <a:pt x="776" y="72"/>
                  <a:pt x="800" y="32"/>
                  <a:pt x="840" y="24"/>
                </a:cubicBezTo>
                <a:cubicBezTo>
                  <a:pt x="880" y="16"/>
                  <a:pt x="952" y="0"/>
                  <a:pt x="984" y="24"/>
                </a:cubicBezTo>
                <a:cubicBezTo>
                  <a:pt x="1016" y="48"/>
                  <a:pt x="1008" y="136"/>
                  <a:pt x="1032" y="168"/>
                </a:cubicBezTo>
                <a:cubicBezTo>
                  <a:pt x="1056" y="200"/>
                  <a:pt x="1128" y="168"/>
                  <a:pt x="1128" y="216"/>
                </a:cubicBezTo>
                <a:cubicBezTo>
                  <a:pt x="1128" y="264"/>
                  <a:pt x="1032" y="408"/>
                  <a:pt x="1032" y="456"/>
                </a:cubicBezTo>
                <a:cubicBezTo>
                  <a:pt x="1032" y="504"/>
                  <a:pt x="1096" y="488"/>
                  <a:pt x="1128" y="504"/>
                </a:cubicBezTo>
                <a:cubicBezTo>
                  <a:pt x="1160" y="520"/>
                  <a:pt x="1208" y="528"/>
                  <a:pt x="1224" y="552"/>
                </a:cubicBezTo>
                <a:cubicBezTo>
                  <a:pt x="1240" y="576"/>
                  <a:pt x="1224" y="632"/>
                  <a:pt x="1224" y="648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2133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r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2590920"/>
            <a:ext cx="4572000" cy="4038480"/>
          </a:xfrm>
          <a:custGeom>
            <a:avLst/>
            <a:gdLst/>
            <a:ahLst/>
            <a:rect l="l" t="t" r="r" b="b"/>
            <a:pathLst>
              <a:path w="2880" h="2544">
                <a:moveTo>
                  <a:pt x="48" y="0"/>
                </a:moveTo>
                <a:cubicBezTo>
                  <a:pt x="92" y="12"/>
                  <a:pt x="136" y="24"/>
                  <a:pt x="144" y="48"/>
                </a:cubicBezTo>
                <a:cubicBezTo>
                  <a:pt x="152" y="72"/>
                  <a:pt x="104" y="112"/>
                  <a:pt x="96" y="144"/>
                </a:cubicBezTo>
                <a:cubicBezTo>
                  <a:pt x="88" y="176"/>
                  <a:pt x="112" y="224"/>
                  <a:pt x="96" y="240"/>
                </a:cubicBezTo>
                <a:cubicBezTo>
                  <a:pt x="80" y="256"/>
                  <a:pt x="0" y="192"/>
                  <a:pt x="0" y="240"/>
                </a:cubicBezTo>
                <a:cubicBezTo>
                  <a:pt x="0" y="288"/>
                  <a:pt x="80" y="440"/>
                  <a:pt x="96" y="528"/>
                </a:cubicBezTo>
                <a:cubicBezTo>
                  <a:pt x="112" y="616"/>
                  <a:pt x="56" y="720"/>
                  <a:pt x="96" y="768"/>
                </a:cubicBezTo>
                <a:cubicBezTo>
                  <a:pt x="136" y="816"/>
                  <a:pt x="272" y="776"/>
                  <a:pt x="336" y="816"/>
                </a:cubicBezTo>
                <a:cubicBezTo>
                  <a:pt x="400" y="856"/>
                  <a:pt x="432" y="968"/>
                  <a:pt x="480" y="1008"/>
                </a:cubicBezTo>
                <a:cubicBezTo>
                  <a:pt x="528" y="1048"/>
                  <a:pt x="568" y="1040"/>
                  <a:pt x="624" y="1056"/>
                </a:cubicBezTo>
                <a:cubicBezTo>
                  <a:pt x="680" y="1072"/>
                  <a:pt x="776" y="1088"/>
                  <a:pt x="816" y="1104"/>
                </a:cubicBezTo>
                <a:cubicBezTo>
                  <a:pt x="856" y="1120"/>
                  <a:pt x="840" y="1152"/>
                  <a:pt x="864" y="1152"/>
                </a:cubicBezTo>
                <a:cubicBezTo>
                  <a:pt x="888" y="1152"/>
                  <a:pt x="912" y="1056"/>
                  <a:pt x="960" y="1104"/>
                </a:cubicBezTo>
                <a:cubicBezTo>
                  <a:pt x="1008" y="1152"/>
                  <a:pt x="1056" y="1384"/>
                  <a:pt x="1152" y="1440"/>
                </a:cubicBezTo>
                <a:cubicBezTo>
                  <a:pt x="1248" y="1496"/>
                  <a:pt x="1432" y="1432"/>
                  <a:pt x="1536" y="1440"/>
                </a:cubicBezTo>
                <a:cubicBezTo>
                  <a:pt x="1640" y="1448"/>
                  <a:pt x="1720" y="1432"/>
                  <a:pt x="1776" y="1488"/>
                </a:cubicBezTo>
                <a:cubicBezTo>
                  <a:pt x="1832" y="1544"/>
                  <a:pt x="1744" y="1712"/>
                  <a:pt x="1872" y="1776"/>
                </a:cubicBezTo>
                <a:cubicBezTo>
                  <a:pt x="2000" y="1840"/>
                  <a:pt x="2392" y="1848"/>
                  <a:pt x="2544" y="1872"/>
                </a:cubicBezTo>
                <a:cubicBezTo>
                  <a:pt x="2696" y="1896"/>
                  <a:pt x="2760" y="1896"/>
                  <a:pt x="2784" y="1920"/>
                </a:cubicBezTo>
                <a:cubicBezTo>
                  <a:pt x="2808" y="1944"/>
                  <a:pt x="2696" y="1976"/>
                  <a:pt x="2688" y="2016"/>
                </a:cubicBezTo>
                <a:cubicBezTo>
                  <a:pt x="2680" y="2056"/>
                  <a:pt x="2752" y="2120"/>
                  <a:pt x="2736" y="2160"/>
                </a:cubicBezTo>
                <a:cubicBezTo>
                  <a:pt x="2720" y="2200"/>
                  <a:pt x="2584" y="2216"/>
                  <a:pt x="2592" y="2256"/>
                </a:cubicBezTo>
                <a:cubicBezTo>
                  <a:pt x="2600" y="2296"/>
                  <a:pt x="2736" y="2352"/>
                  <a:pt x="2784" y="2400"/>
                </a:cubicBezTo>
                <a:cubicBezTo>
                  <a:pt x="2832" y="2448"/>
                  <a:pt x="2864" y="2520"/>
                  <a:pt x="2880" y="2544"/>
                </a:cubicBezTo>
              </a:path>
            </a:pathLst>
          </a:custGeom>
          <a:noFill/>
          <a:ln cap="sq" w="57240">
            <a:solidFill>
              <a:srgbClr val="ff99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8320" y="29718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85040" y="34290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2362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2743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3657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Mile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91120" y="2590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Mityl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2362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38680" y="4267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B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600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1600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19520" y="1828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90920" y="1828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7180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Phil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Amphi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1523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Thessal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0" y="1676520"/>
            <a:ext cx="1397160" cy="1828800"/>
          </a:xfrm>
          <a:custGeom>
            <a:avLst/>
            <a:gdLst/>
            <a:ahLst/>
            <a:rect l="l" t="t" r="r" b="b"/>
            <a:pathLst>
              <a:path w="880" h="1152">
                <a:moveTo>
                  <a:pt x="880" y="48"/>
                </a:moveTo>
                <a:cubicBezTo>
                  <a:pt x="852" y="24"/>
                  <a:pt x="824" y="0"/>
                  <a:pt x="784" y="0"/>
                </a:cubicBezTo>
                <a:cubicBezTo>
                  <a:pt x="744" y="0"/>
                  <a:pt x="688" y="32"/>
                  <a:pt x="640" y="48"/>
                </a:cubicBezTo>
                <a:cubicBezTo>
                  <a:pt x="592" y="64"/>
                  <a:pt x="536" y="96"/>
                  <a:pt x="496" y="96"/>
                </a:cubicBezTo>
                <a:cubicBezTo>
                  <a:pt x="456" y="96"/>
                  <a:pt x="432" y="40"/>
                  <a:pt x="400" y="48"/>
                </a:cubicBezTo>
                <a:cubicBezTo>
                  <a:pt x="368" y="56"/>
                  <a:pt x="328" y="112"/>
                  <a:pt x="304" y="144"/>
                </a:cubicBezTo>
                <a:cubicBezTo>
                  <a:pt x="280" y="176"/>
                  <a:pt x="280" y="232"/>
                  <a:pt x="256" y="240"/>
                </a:cubicBezTo>
                <a:cubicBezTo>
                  <a:pt x="232" y="248"/>
                  <a:pt x="192" y="200"/>
                  <a:pt x="160" y="192"/>
                </a:cubicBezTo>
                <a:cubicBezTo>
                  <a:pt x="128" y="184"/>
                  <a:pt x="88" y="176"/>
                  <a:pt x="64" y="192"/>
                </a:cubicBezTo>
                <a:cubicBezTo>
                  <a:pt x="40" y="208"/>
                  <a:pt x="0" y="200"/>
                  <a:pt x="16" y="288"/>
                </a:cubicBezTo>
                <a:cubicBezTo>
                  <a:pt x="32" y="376"/>
                  <a:pt x="160" y="648"/>
                  <a:pt x="160" y="720"/>
                </a:cubicBezTo>
                <a:cubicBezTo>
                  <a:pt x="160" y="792"/>
                  <a:pt x="24" y="688"/>
                  <a:pt x="16" y="720"/>
                </a:cubicBezTo>
                <a:cubicBezTo>
                  <a:pt x="8" y="752"/>
                  <a:pt x="48" y="848"/>
                  <a:pt x="112" y="912"/>
                </a:cubicBezTo>
                <a:cubicBezTo>
                  <a:pt x="176" y="976"/>
                  <a:pt x="384" y="1064"/>
                  <a:pt x="400" y="1104"/>
                </a:cubicBezTo>
                <a:cubicBezTo>
                  <a:pt x="416" y="1144"/>
                  <a:pt x="240" y="1144"/>
                  <a:pt x="208" y="1152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2280" y="5105520"/>
            <a:ext cx="2819520" cy="156924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A.D. 53 – 57     Acts 18:23 – 21: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Journe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Journey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6172200"/>
            <a:ext cx="609840" cy="0"/>
          </a:xfrm>
          <a:prstGeom prst="line">
            <a:avLst/>
          </a:prstGeom>
          <a:ln cap="sq" w="57240">
            <a:solidFill>
              <a:srgbClr val="bbe0e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6477120"/>
            <a:ext cx="609480" cy="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89360" y="914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924680" y="380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ar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4852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Paul’s Journey to Rome 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rcRect l="4168" t="0" r="0" b="4171"/>
          <a:stretch/>
        </p:blipFill>
        <p:spPr>
          <a:xfrm>
            <a:off x="0" y="86508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70400" y="44956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6280" y="441972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03560" y="27687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H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24280" y="15447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ED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73760" y="19051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7040" y="320040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C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18720" y="40622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36880" y="34290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Y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130160" y="35812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MPHY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96080" y="6095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05920" y="3429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Tar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24680" y="4952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i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rcRect l="42185" t="51968" r="36439" b="25671"/>
          <a:stretch/>
        </p:blipFill>
        <p:spPr>
          <a:xfrm>
            <a:off x="5943600" y="1143000"/>
            <a:ext cx="2971800" cy="2174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943600" y="1066680"/>
            <a:ext cx="2971800" cy="22860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633000" y="13986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1371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Forum of App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320" y="838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320" y="17064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Pute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3429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yrac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2971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Rheg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76920" y="35812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Cn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My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76320" y="43434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Shipwr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0400" y="4648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St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28195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2500"/>
                </a:solidFill>
                <a:latin typeface="Tahoma"/>
              </a:rPr>
              <a:t>Wind of hurricane force – “Northeas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Phoenix </a:t>
            </a:r>
            <a:r>
              <a:rPr b="0" lang="en-US" sz="1200" spc="-1" strike="noStrike">
                <a:solidFill>
                  <a:srgbClr val="4a2500"/>
                </a:solidFill>
                <a:latin typeface="Tahoma"/>
              </a:rPr>
              <a:t>Intended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1752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La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150804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alm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2286000"/>
            <a:ext cx="6858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32" y="272"/>
                  <a:pt x="0" y="288"/>
                </a:cubicBezTo>
              </a:path>
            </a:pathLst>
          </a:custGeom>
          <a:noFill/>
          <a:ln cap="sq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4191120"/>
            <a:ext cx="1676520" cy="990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5000" y="3772080"/>
            <a:ext cx="3060720" cy="2323800"/>
          </a:xfrm>
          <a:custGeom>
            <a:avLst/>
            <a:gdLst/>
            <a:ahLst/>
            <a:rect l="l" t="t" r="r" b="b"/>
            <a:pathLst>
              <a:path w="1928" h="1464">
                <a:moveTo>
                  <a:pt x="1872" y="1464"/>
                </a:moveTo>
                <a:cubicBezTo>
                  <a:pt x="1836" y="1400"/>
                  <a:pt x="1800" y="1336"/>
                  <a:pt x="1776" y="1272"/>
                </a:cubicBezTo>
                <a:cubicBezTo>
                  <a:pt x="1752" y="1208"/>
                  <a:pt x="1712" y="1136"/>
                  <a:pt x="1728" y="1080"/>
                </a:cubicBezTo>
                <a:cubicBezTo>
                  <a:pt x="1744" y="1024"/>
                  <a:pt x="1872" y="1016"/>
                  <a:pt x="1872" y="936"/>
                </a:cubicBezTo>
                <a:cubicBezTo>
                  <a:pt x="1872" y="856"/>
                  <a:pt x="1720" y="720"/>
                  <a:pt x="1728" y="600"/>
                </a:cubicBezTo>
                <a:cubicBezTo>
                  <a:pt x="1736" y="480"/>
                  <a:pt x="1928" y="288"/>
                  <a:pt x="1920" y="216"/>
                </a:cubicBezTo>
                <a:cubicBezTo>
                  <a:pt x="1912" y="144"/>
                  <a:pt x="1720" y="200"/>
                  <a:pt x="1680" y="168"/>
                </a:cubicBezTo>
                <a:cubicBezTo>
                  <a:pt x="1640" y="136"/>
                  <a:pt x="1720" y="0"/>
                  <a:pt x="1680" y="24"/>
                </a:cubicBezTo>
                <a:cubicBezTo>
                  <a:pt x="1640" y="48"/>
                  <a:pt x="1536" y="264"/>
                  <a:pt x="1440" y="312"/>
                </a:cubicBezTo>
                <a:cubicBezTo>
                  <a:pt x="1344" y="360"/>
                  <a:pt x="1168" y="288"/>
                  <a:pt x="1104" y="312"/>
                </a:cubicBezTo>
                <a:cubicBezTo>
                  <a:pt x="1040" y="336"/>
                  <a:pt x="1080" y="456"/>
                  <a:pt x="1056" y="456"/>
                </a:cubicBezTo>
                <a:cubicBezTo>
                  <a:pt x="1032" y="456"/>
                  <a:pt x="992" y="320"/>
                  <a:pt x="960" y="312"/>
                </a:cubicBezTo>
                <a:cubicBezTo>
                  <a:pt x="928" y="304"/>
                  <a:pt x="888" y="416"/>
                  <a:pt x="864" y="408"/>
                </a:cubicBezTo>
                <a:cubicBezTo>
                  <a:pt x="840" y="400"/>
                  <a:pt x="840" y="264"/>
                  <a:pt x="816" y="264"/>
                </a:cubicBezTo>
                <a:cubicBezTo>
                  <a:pt x="792" y="264"/>
                  <a:pt x="744" y="408"/>
                  <a:pt x="720" y="408"/>
                </a:cubicBezTo>
                <a:cubicBezTo>
                  <a:pt x="696" y="408"/>
                  <a:pt x="688" y="256"/>
                  <a:pt x="672" y="264"/>
                </a:cubicBezTo>
                <a:cubicBezTo>
                  <a:pt x="656" y="272"/>
                  <a:pt x="648" y="456"/>
                  <a:pt x="624" y="456"/>
                </a:cubicBezTo>
                <a:cubicBezTo>
                  <a:pt x="600" y="456"/>
                  <a:pt x="568" y="288"/>
                  <a:pt x="528" y="264"/>
                </a:cubicBezTo>
                <a:cubicBezTo>
                  <a:pt x="488" y="240"/>
                  <a:pt x="424" y="312"/>
                  <a:pt x="384" y="312"/>
                </a:cubicBezTo>
                <a:cubicBezTo>
                  <a:pt x="344" y="312"/>
                  <a:pt x="320" y="288"/>
                  <a:pt x="288" y="264"/>
                </a:cubicBezTo>
                <a:cubicBezTo>
                  <a:pt x="256" y="240"/>
                  <a:pt x="232" y="176"/>
                  <a:pt x="192" y="168"/>
                </a:cubicBezTo>
                <a:cubicBezTo>
                  <a:pt x="152" y="160"/>
                  <a:pt x="80" y="224"/>
                  <a:pt x="48" y="216"/>
                </a:cubicBezTo>
                <a:cubicBezTo>
                  <a:pt x="16" y="208"/>
                  <a:pt x="8" y="136"/>
                  <a:pt x="0" y="12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4038480"/>
            <a:ext cx="914400" cy="939960"/>
          </a:xfrm>
          <a:custGeom>
            <a:avLst/>
            <a:gdLst/>
            <a:ahLst/>
            <a:rect l="l" t="t" r="r" b="b"/>
            <a:pathLst>
              <a:path w="576" h="592">
                <a:moveTo>
                  <a:pt x="576" y="0"/>
                </a:moveTo>
                <a:cubicBezTo>
                  <a:pt x="500" y="8"/>
                  <a:pt x="424" y="16"/>
                  <a:pt x="384" y="48"/>
                </a:cubicBezTo>
                <a:cubicBezTo>
                  <a:pt x="344" y="80"/>
                  <a:pt x="328" y="144"/>
                  <a:pt x="336" y="192"/>
                </a:cubicBezTo>
                <a:cubicBezTo>
                  <a:pt x="344" y="240"/>
                  <a:pt x="416" y="296"/>
                  <a:pt x="432" y="336"/>
                </a:cubicBezTo>
                <a:cubicBezTo>
                  <a:pt x="448" y="376"/>
                  <a:pt x="448" y="400"/>
                  <a:pt x="432" y="432"/>
                </a:cubicBezTo>
                <a:cubicBezTo>
                  <a:pt x="416" y="464"/>
                  <a:pt x="376" y="504"/>
                  <a:pt x="336" y="528"/>
                </a:cubicBezTo>
                <a:cubicBezTo>
                  <a:pt x="296" y="552"/>
                  <a:pt x="232" y="568"/>
                  <a:pt x="192" y="576"/>
                </a:cubicBezTo>
                <a:cubicBezTo>
                  <a:pt x="152" y="584"/>
                  <a:pt x="128" y="592"/>
                  <a:pt x="96" y="576"/>
                </a:cubicBezTo>
                <a:cubicBezTo>
                  <a:pt x="64" y="560"/>
                  <a:pt x="16" y="496"/>
                  <a:pt x="0" y="480"/>
                </a:cubicBezTo>
              </a:path>
            </a:pathLst>
          </a:custGeom>
          <a:noFill/>
          <a:ln cap="sq" w="190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4267080"/>
            <a:ext cx="3962160" cy="863640"/>
          </a:xfrm>
          <a:custGeom>
            <a:avLst/>
            <a:gdLst/>
            <a:ahLst/>
            <a:rect l="l" t="t" r="r" b="b"/>
            <a:pathLst>
              <a:path w="2496" h="544">
                <a:moveTo>
                  <a:pt x="2496" y="336"/>
                </a:moveTo>
                <a:cubicBezTo>
                  <a:pt x="2464" y="408"/>
                  <a:pt x="2432" y="480"/>
                  <a:pt x="2400" y="480"/>
                </a:cubicBezTo>
                <a:cubicBezTo>
                  <a:pt x="2368" y="480"/>
                  <a:pt x="2328" y="336"/>
                  <a:pt x="2304" y="336"/>
                </a:cubicBezTo>
                <a:cubicBezTo>
                  <a:pt x="2280" y="336"/>
                  <a:pt x="2272" y="480"/>
                  <a:pt x="2256" y="480"/>
                </a:cubicBezTo>
                <a:cubicBezTo>
                  <a:pt x="2240" y="480"/>
                  <a:pt x="2304" y="328"/>
                  <a:pt x="2208" y="336"/>
                </a:cubicBezTo>
                <a:cubicBezTo>
                  <a:pt x="2112" y="344"/>
                  <a:pt x="1784" y="512"/>
                  <a:pt x="1680" y="528"/>
                </a:cubicBezTo>
                <a:cubicBezTo>
                  <a:pt x="1576" y="544"/>
                  <a:pt x="1616" y="440"/>
                  <a:pt x="1584" y="432"/>
                </a:cubicBezTo>
                <a:cubicBezTo>
                  <a:pt x="1552" y="424"/>
                  <a:pt x="1496" y="512"/>
                  <a:pt x="1488" y="480"/>
                </a:cubicBezTo>
                <a:cubicBezTo>
                  <a:pt x="1480" y="448"/>
                  <a:pt x="1560" y="240"/>
                  <a:pt x="1536" y="240"/>
                </a:cubicBezTo>
                <a:cubicBezTo>
                  <a:pt x="1512" y="240"/>
                  <a:pt x="1384" y="472"/>
                  <a:pt x="1344" y="480"/>
                </a:cubicBezTo>
                <a:cubicBezTo>
                  <a:pt x="1304" y="488"/>
                  <a:pt x="1312" y="288"/>
                  <a:pt x="1296" y="288"/>
                </a:cubicBezTo>
                <a:cubicBezTo>
                  <a:pt x="1280" y="288"/>
                  <a:pt x="1272" y="456"/>
                  <a:pt x="1248" y="480"/>
                </a:cubicBezTo>
                <a:cubicBezTo>
                  <a:pt x="1224" y="504"/>
                  <a:pt x="1152" y="456"/>
                  <a:pt x="1152" y="432"/>
                </a:cubicBezTo>
                <a:cubicBezTo>
                  <a:pt x="1152" y="408"/>
                  <a:pt x="1264" y="360"/>
                  <a:pt x="1248" y="336"/>
                </a:cubicBezTo>
                <a:cubicBezTo>
                  <a:pt x="1232" y="312"/>
                  <a:pt x="1088" y="264"/>
                  <a:pt x="1056" y="288"/>
                </a:cubicBezTo>
                <a:cubicBezTo>
                  <a:pt x="1024" y="312"/>
                  <a:pt x="1088" y="448"/>
                  <a:pt x="1056" y="480"/>
                </a:cubicBezTo>
                <a:cubicBezTo>
                  <a:pt x="1024" y="512"/>
                  <a:pt x="872" y="496"/>
                  <a:pt x="864" y="480"/>
                </a:cubicBezTo>
                <a:cubicBezTo>
                  <a:pt x="856" y="464"/>
                  <a:pt x="1016" y="408"/>
                  <a:pt x="1008" y="384"/>
                </a:cubicBezTo>
                <a:cubicBezTo>
                  <a:pt x="1000" y="360"/>
                  <a:pt x="832" y="368"/>
                  <a:pt x="816" y="336"/>
                </a:cubicBezTo>
                <a:cubicBezTo>
                  <a:pt x="800" y="304"/>
                  <a:pt x="928" y="208"/>
                  <a:pt x="912" y="192"/>
                </a:cubicBezTo>
                <a:cubicBezTo>
                  <a:pt x="896" y="176"/>
                  <a:pt x="744" y="200"/>
                  <a:pt x="720" y="240"/>
                </a:cubicBezTo>
                <a:cubicBezTo>
                  <a:pt x="696" y="280"/>
                  <a:pt x="800" y="424"/>
                  <a:pt x="768" y="432"/>
                </a:cubicBezTo>
                <a:cubicBezTo>
                  <a:pt x="736" y="440"/>
                  <a:pt x="552" y="328"/>
                  <a:pt x="528" y="288"/>
                </a:cubicBezTo>
                <a:cubicBezTo>
                  <a:pt x="504" y="248"/>
                  <a:pt x="624" y="168"/>
                  <a:pt x="624" y="192"/>
                </a:cubicBezTo>
                <a:cubicBezTo>
                  <a:pt x="624" y="216"/>
                  <a:pt x="568" y="416"/>
                  <a:pt x="528" y="432"/>
                </a:cubicBezTo>
                <a:cubicBezTo>
                  <a:pt x="488" y="448"/>
                  <a:pt x="424" y="288"/>
                  <a:pt x="384" y="288"/>
                </a:cubicBezTo>
                <a:cubicBezTo>
                  <a:pt x="344" y="288"/>
                  <a:pt x="312" y="440"/>
                  <a:pt x="288" y="432"/>
                </a:cubicBezTo>
                <a:cubicBezTo>
                  <a:pt x="264" y="424"/>
                  <a:pt x="272" y="264"/>
                  <a:pt x="240" y="240"/>
                </a:cubicBezTo>
                <a:cubicBezTo>
                  <a:pt x="208" y="216"/>
                  <a:pt x="112" y="320"/>
                  <a:pt x="96" y="288"/>
                </a:cubicBezTo>
                <a:cubicBezTo>
                  <a:pt x="80" y="256"/>
                  <a:pt x="160" y="96"/>
                  <a:pt x="144" y="48"/>
                </a:cubicBezTo>
                <a:cubicBezTo>
                  <a:pt x="128" y="0"/>
                  <a:pt x="24" y="8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1143000"/>
            <a:ext cx="1105200" cy="3048120"/>
          </a:xfrm>
          <a:custGeom>
            <a:avLst/>
            <a:gdLst/>
            <a:ahLst/>
            <a:rect l="l" t="t" r="r" b="b"/>
            <a:pathLst>
              <a:path w="696" h="1920">
                <a:moveTo>
                  <a:pt x="336" y="1920"/>
                </a:moveTo>
                <a:cubicBezTo>
                  <a:pt x="444" y="1856"/>
                  <a:pt x="552" y="1792"/>
                  <a:pt x="576" y="1728"/>
                </a:cubicBezTo>
                <a:cubicBezTo>
                  <a:pt x="600" y="1664"/>
                  <a:pt x="464" y="1584"/>
                  <a:pt x="480" y="1536"/>
                </a:cubicBezTo>
                <a:cubicBezTo>
                  <a:pt x="496" y="1488"/>
                  <a:pt x="648" y="1464"/>
                  <a:pt x="672" y="1440"/>
                </a:cubicBezTo>
                <a:cubicBezTo>
                  <a:pt x="696" y="1416"/>
                  <a:pt x="632" y="1416"/>
                  <a:pt x="624" y="1392"/>
                </a:cubicBezTo>
                <a:cubicBezTo>
                  <a:pt x="616" y="1368"/>
                  <a:pt x="624" y="1336"/>
                  <a:pt x="624" y="1296"/>
                </a:cubicBezTo>
                <a:cubicBezTo>
                  <a:pt x="624" y="1256"/>
                  <a:pt x="656" y="1224"/>
                  <a:pt x="624" y="1152"/>
                </a:cubicBezTo>
                <a:cubicBezTo>
                  <a:pt x="592" y="1080"/>
                  <a:pt x="480" y="976"/>
                  <a:pt x="432" y="864"/>
                </a:cubicBezTo>
                <a:cubicBezTo>
                  <a:pt x="384" y="752"/>
                  <a:pt x="352" y="568"/>
                  <a:pt x="336" y="480"/>
                </a:cubicBezTo>
                <a:cubicBezTo>
                  <a:pt x="320" y="392"/>
                  <a:pt x="360" y="368"/>
                  <a:pt x="336" y="336"/>
                </a:cubicBezTo>
                <a:cubicBezTo>
                  <a:pt x="312" y="304"/>
                  <a:pt x="240" y="320"/>
                  <a:pt x="192" y="288"/>
                </a:cubicBezTo>
                <a:cubicBezTo>
                  <a:pt x="144" y="256"/>
                  <a:pt x="80" y="192"/>
                  <a:pt x="48" y="144"/>
                </a:cubicBezTo>
                <a:cubicBezTo>
                  <a:pt x="16" y="96"/>
                  <a:pt x="8" y="24"/>
                  <a:pt x="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19920" y="1143000"/>
            <a:ext cx="2590560" cy="1689120"/>
          </a:xfrm>
          <a:custGeom>
            <a:avLst/>
            <a:gdLst/>
            <a:ahLst/>
            <a:rect l="l" t="t" r="r" b="b"/>
            <a:pathLst>
              <a:path w="1688" h="1064">
                <a:moveTo>
                  <a:pt x="1680" y="0"/>
                </a:moveTo>
                <a:cubicBezTo>
                  <a:pt x="1632" y="108"/>
                  <a:pt x="1584" y="216"/>
                  <a:pt x="1584" y="336"/>
                </a:cubicBezTo>
                <a:cubicBezTo>
                  <a:pt x="1584" y="456"/>
                  <a:pt x="1688" y="624"/>
                  <a:pt x="1680" y="720"/>
                </a:cubicBezTo>
                <a:cubicBezTo>
                  <a:pt x="1672" y="816"/>
                  <a:pt x="1624" y="888"/>
                  <a:pt x="1536" y="912"/>
                </a:cubicBezTo>
                <a:cubicBezTo>
                  <a:pt x="1448" y="936"/>
                  <a:pt x="1240" y="880"/>
                  <a:pt x="1152" y="864"/>
                </a:cubicBezTo>
                <a:cubicBezTo>
                  <a:pt x="1064" y="848"/>
                  <a:pt x="1040" y="840"/>
                  <a:pt x="1008" y="816"/>
                </a:cubicBezTo>
                <a:cubicBezTo>
                  <a:pt x="976" y="792"/>
                  <a:pt x="984" y="696"/>
                  <a:pt x="960" y="720"/>
                </a:cubicBezTo>
                <a:cubicBezTo>
                  <a:pt x="936" y="744"/>
                  <a:pt x="912" y="968"/>
                  <a:pt x="864" y="960"/>
                </a:cubicBezTo>
                <a:cubicBezTo>
                  <a:pt x="816" y="952"/>
                  <a:pt x="792" y="664"/>
                  <a:pt x="672" y="672"/>
                </a:cubicBezTo>
                <a:cubicBezTo>
                  <a:pt x="552" y="680"/>
                  <a:pt x="256" y="952"/>
                  <a:pt x="144" y="1008"/>
                </a:cubicBezTo>
                <a:cubicBezTo>
                  <a:pt x="32" y="1064"/>
                  <a:pt x="24" y="1008"/>
                  <a:pt x="0" y="1008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22960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Anti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4114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47242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58200" y="3733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763120" y="40384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610480" y="5257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534520" y="57913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686800" y="60199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1430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36576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20120" y="2133720"/>
            <a:ext cx="7596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32004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0" y="1981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53280" y="19810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67480" y="22096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67480" y="2133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Fair Ha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96080" y="5486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Caes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2438280"/>
            <a:ext cx="1333800" cy="1676520"/>
          </a:xfrm>
          <a:custGeom>
            <a:avLst/>
            <a:gdLst/>
            <a:ahLst/>
            <a:rect l="l" t="t" r="r" b="b"/>
            <a:pathLst>
              <a:path w="840" h="1056">
                <a:moveTo>
                  <a:pt x="72" y="1056"/>
                </a:moveTo>
                <a:cubicBezTo>
                  <a:pt x="36" y="912"/>
                  <a:pt x="0" y="768"/>
                  <a:pt x="24" y="624"/>
                </a:cubicBezTo>
                <a:cubicBezTo>
                  <a:pt x="48" y="480"/>
                  <a:pt x="80" y="296"/>
                  <a:pt x="216" y="192"/>
                </a:cubicBezTo>
                <a:cubicBezTo>
                  <a:pt x="352" y="88"/>
                  <a:pt x="736" y="32"/>
                  <a:pt x="840" y="0"/>
                </a:cubicBezTo>
              </a:path>
            </a:pathLst>
          </a:custGeom>
          <a:noFill/>
          <a:ln cap="sq"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4267080"/>
            <a:ext cx="304920" cy="304920"/>
          </a:xfrm>
          <a:prstGeom prst="irregularSeal1">
            <a:avLst/>
          </a:prstGeom>
          <a:solidFill>
            <a:srgbClr val="bbe0e3"/>
          </a:solidFill>
          <a:ln cap="sq"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410080"/>
            <a:ext cx="2819520" cy="12276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Tahoma"/>
              </a:rPr>
              <a:t>A.D. 59 – 6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    Acts 27:1 - 28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Paul’s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6400800"/>
            <a:ext cx="685800" cy="76320"/>
          </a:xfrm>
          <a:custGeom>
            <a:avLst/>
            <a:gdLst/>
            <a:ahLst/>
            <a:rect l="l" t="t" r="r" b="b"/>
            <a:pathLst>
              <a:path w="240" h="1">
                <a:moveTo>
                  <a:pt x="0" y="0"/>
                </a:moveTo>
                <a:cubicBezTo>
                  <a:pt x="96" y="0"/>
                  <a:pt x="192" y="0"/>
                  <a:pt x="240" y="0"/>
                </a:cubicBezTo>
              </a:path>
            </a:pathLst>
          </a:custGeom>
          <a:noFill/>
          <a:ln cap="sq" w="5724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5562720" y="5487840"/>
            <a:ext cx="1218960" cy="801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80880" y="1143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Three Tav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14400" y="1828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9524880" cy="8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SenateCondensed"/>
              </a:rPr>
              <a:t>Worksheet: 1 Cor. 13:4-7</a:t>
            </a:r>
            <a:endParaRPr b="0" lang="en-US" sz="5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8015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080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4 Love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patient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love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kind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 It doe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envy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doe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boast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proud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 5 It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rude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self-seeking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i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easily angered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it keep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 record of wrong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 6 Love does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not delight in evil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but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rejoices with the truth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 7 It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always protect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always trust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always hope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, </a:t>
            </a:r>
            <a:r>
              <a:rPr b="1" lang="en-US" sz="4000" spc="-1" strike="noStrike">
                <a:solidFill>
                  <a:srgbClr val="ff0000"/>
                </a:solidFill>
                <a:latin typeface="SenateCondensed"/>
              </a:rPr>
              <a:t>always perseveres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36960" y="141120"/>
            <a:ext cx="95040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Juice ITC"/>
              </a:rPr>
              <a:t>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9280" y="189000"/>
            <a:ext cx="1440000" cy="1800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50920" y="260280"/>
            <a:ext cx="1296720" cy="1656000"/>
          </a:xfrm>
          <a:prstGeom prst="rect">
            <a:avLst/>
          </a:prstGeom>
          <a:solidFill>
            <a:srgbClr val="72a1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4000" y="333360"/>
            <a:ext cx="115236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68360" y="76320"/>
            <a:ext cx="86364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SenateCondensed"/>
              </a:rPr>
              <a:t>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835280" y="404640"/>
            <a:ext cx="691344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The early chur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835280" y="6400800"/>
            <a:ext cx="496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Minstrella"/>
              </a:rPr>
              <a:t>The Story of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Church organization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777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6160" indent="-41616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SenateCondensed"/>
              </a:rPr>
              <a:t>There were no buildings. Everyone met in homes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16160" indent="-41616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SenateCondensed"/>
              </a:rPr>
              <a:t>There were no paid ministers, pastors or priests. It was a lay community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16160" indent="-41616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SenateCondensed"/>
              </a:rPr>
              <a:t>They called the community “the ekklesia” (or congregation)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Where did they meet?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Where did they meet?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Church leaders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4480" indent="-38448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SenateCondensed"/>
              </a:rPr>
              <a:t>Apostolos </a:t>
            </a: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A person sent by another; a messenger, envoy or missionary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-38448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SenateCondensed"/>
              </a:rPr>
              <a:t>Diakonos </a:t>
            </a: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Servant, attendant, one who prepares or supplies food and other necessities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-38448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SenateCondensed"/>
              </a:rPr>
              <a:t>Episkopos </a:t>
            </a: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Overseer or superintendent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-384480">
              <a:lnSpc>
                <a:spcPct val="9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SenateCondensed"/>
              </a:rPr>
              <a:t>Presbuteros </a:t>
            </a: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Older person; elder, senior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0" algn="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0" algn="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d20000"/>
                </a:solidFill>
                <a:latin typeface="SenateCondensed"/>
              </a:rPr>
              <a:t>Qualifications: 1 Timothy 3:1–13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952488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SenateCondensed"/>
              </a:rPr>
              <a:t>Suffering of the First Century Church</a:t>
            </a:r>
            <a:endParaRPr b="0" lang="en-US" sz="5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6453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Opposition from Jewish leaders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Opposition from Romans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Slaughter by Nero in AD 66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Scapegoats for fire of Rome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Thrown to lions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05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1 Peter 2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5248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SenateCondensed"/>
              </a:rPr>
              <a:t>Errors arising in the first century</a:t>
            </a:r>
            <a:endParaRPr b="0" lang="en-US" sz="58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59636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2480" indent="-40248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Many Jewish believers insisted that keeping  the Jewish law was essential for all Christians: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Circumcision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Avoiding unclean food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Not eating with Gentile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02480" indent="-40248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Other problems arose concerning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Nature of Jesu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Inspiration of apostle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02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ome Bible Word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834920" y="1483920"/>
            <a:ext cx="63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Satan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devil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lucifer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demon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antichrist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gentile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spirit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ongues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Next Week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58920" y="2133360"/>
            <a:ext cx="7634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07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enateCondensed"/>
              </a:rPr>
              <a:t>The kingdom of God</a:t>
            </a:r>
            <a:endParaRPr b="0" lang="en-US" sz="8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463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nateCondensed"/>
              </a:rPr>
              <a:t>The spread of the gospel 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(map)</a:t>
            </a:r>
            <a:endParaRPr b="0" lang="en-US" sz="4000" spc="-1" strike="noStrike">
              <a:solidFill>
                <a:srgbClr val="ffffff"/>
              </a:solidFill>
              <a:latin typeface="SenateCondense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6858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990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10480" y="4800600"/>
            <a:ext cx="152640" cy="152280"/>
          </a:xfrm>
          <a:prstGeom prst="ellipse">
            <a:avLst/>
          </a:prstGeom>
          <a:solidFill>
            <a:srgbClr val="000000"/>
          </a:solidFill>
          <a:ln cap="sq"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9907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219320"/>
            <a:ext cx="76320" cy="7596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24382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4382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2860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4382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66688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34290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63120" y="3886200"/>
            <a:ext cx="7596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86800" y="41148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6094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219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he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2096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i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h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133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odi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2666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33526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13716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4495680"/>
            <a:ext cx="1600200" cy="175284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1752480"/>
            <a:ext cx="11582280" cy="1028700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-457200"/>
            <a:ext cx="9677160" cy="822960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990720"/>
            <a:ext cx="7162920" cy="586728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2743200"/>
            <a:ext cx="3962160" cy="3809880"/>
          </a:xfrm>
          <a:prstGeom prst="ellipse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43600"/>
            <a:ext cx="9144000" cy="1143000"/>
          </a:xfrm>
          <a:prstGeom prst="rect">
            <a:avLst/>
          </a:prstGeom>
          <a:solidFill>
            <a:srgbClr val="397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5029200"/>
            <a:ext cx="1676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838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sal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914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2743200"/>
            <a:ext cx="76320" cy="763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D.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6095880"/>
            <a:ext cx="14475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D.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6095880"/>
            <a:ext cx="14475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D.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6095880"/>
            <a:ext cx="1447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D.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533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0"/>
            <a:ext cx="64767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PREAD OF THE GO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Pentecos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18920" y="1412640"/>
            <a:ext cx="7056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9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20000"/>
                </a:solidFill>
                <a:latin typeface="SenateCondensed"/>
              </a:rPr>
              <a:t>Acts 2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first preaching effort after Jesus went to heaven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51 days after Jesus was killed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Anointing of the Holy Spirit on the apostles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Apostles able to speak in different languages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3,000 baptise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89160" indent="-389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Believers devoted to apostles' teaching, fellowship, breaking of bread, and prayer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95640" y="274680"/>
            <a:ext cx="3097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Baptism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1628640"/>
            <a:ext cx="3456000" cy="77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All new believers baptised by immersion i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SenateCondensed"/>
              </a:rPr>
              <a:t>Acts 2:41; 8:38-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SenateCondensed"/>
              </a:rPr>
              <a:t>People at Pentecost probably baptised in the nearby mikva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Baptism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6000" y="1483920"/>
            <a:ext cx="72867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0800" indent="-370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All new believers were baptised by immersion in water  </a:t>
            </a: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Acts 2:41; 8:30-38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Identified with Christ's sacrifice by symbolic death  </a:t>
            </a: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Romans 6:3-7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-370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Rose from the water to begin a new life in Christ  </a:t>
            </a: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Colossians 3:1-17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7080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Gospel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1676160"/>
            <a:ext cx="7796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448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enateCondensed"/>
              </a:rPr>
              <a:t>Gospel means "good news” </a:t>
            </a:r>
            <a:r>
              <a:rPr b="0" i="1" lang="en-US" sz="1600" spc="-1" strike="noStrike">
                <a:solidFill>
                  <a:srgbClr val="000000"/>
                </a:solidFill>
                <a:latin typeface="Senate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0" algn="ct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000"/>
                </a:solidFill>
                <a:latin typeface="SenateCondensed"/>
              </a:rPr>
              <a:t>The two elements of the gospel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844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things concerning the Kingdom of Go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1764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things concerning the name of Jesus Christ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4797360"/>
            <a:ext cx="42670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8: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28: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28:30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Holy Spirit gift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63280" y="1628280"/>
            <a:ext cx="6939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0600" indent="-3006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For the writing of the New Testament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-3006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Preaching in different languages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-3006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Healing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-3006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Building up the new churches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Holy Spirit gifts appear to have died out by the end of the first century,  probably with the death of the apostles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00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purpose of the gift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676160"/>
            <a:ext cx="7586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3480" indent="-393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e powers of the Holy Spirit were given to men on special occasions to enable them to carry out special work in God's service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93480" indent="-393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e need for the gifts in the first century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39240" indent="-389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Jesus had left them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39240" indent="-389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No New Testament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39240" indent="-389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No pattern of church affair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39240" indent="-389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Opposition from Jews and Roman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934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5:22:34Z</dcterms:created>
  <dc:creator>Paul Bailye</dc:creator>
  <dc:description>paul.bailye@gmail.com</dc:description>
  <dc:language>en-US</dc:language>
  <cp:lastModifiedBy>Rob Hyndman</cp:lastModifiedBy>
  <dcterms:modified xsi:type="dcterms:W3CDTF">2008-05-26T10:59:05Z</dcterms:modified>
  <cp:revision>93</cp:revision>
  <dc:subject/>
  <dc:title>GTKTBB</dc:title>
</cp:coreProperties>
</file>